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C658-8648-402A-B761-F5650C8CA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E633-DFF3-47D9-903A-E08BC55F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40C3-3ADF-4D34-845E-AA05F635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3557-47B5-4735-932C-A97640004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87E1-155D-4609-AD8C-75C413C8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BEDC-F154-490E-9DDA-FB862D71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091-54AE-4BB4-9E93-0068E455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BD15-5256-4C08-9390-C909E39C2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2DFE-611E-4B9E-A10D-1B6275B15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051E-1BF0-4B84-939C-47B8A445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DA78-7E2E-4501-9110-1D54F0D6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981C-C62A-4768-AAEA-2AEC081EC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02AB-8CC4-40B0-ACE0-615208EA2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velopment of the Music Industry in Seneg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orld Bank-Supported Initi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 Case Study in Music Development from Seneg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 Forum on Mus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 12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mael Ouedra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Constraint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or knowledge of the music s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rding its contribution to income and employment, its level of sales and pi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emost, an obsolete legislative and regulatory framewor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dated legislation (N° 73-52, 12/4/197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nforcement of existing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llection society (BSDA) supported by private-sector royalties, yet managed by public bureaucr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jor Thrusts of Bank Initia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rnization of Senegal’s legislation and regulatory framewor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Senegal draft, for parliament’s approval, a modern legislation for copyrights and related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Senegal institute a transparent collection society, to be managed by right-holders, under public supervision, and not by public bureaucrats nominated by dec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jor Thrust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ld awareness and strengthen capac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musicians and other artists, as well as public officials at the Ministry of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awareness campaigns addressed to musicians in Dakar and the provi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study tours of developed and develop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 technical tra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jor Thrust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oaden knowledge of the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understand and appraise the contribution of the music sector to income and 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and suggest a statute for professional art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the social conditions of artists to suggest a social safety net (pension schem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plementatio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tical sen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egal lacks the expertise to draft a modern legislation, but wouldn’t accept foreign experts to draft its legi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reaucratic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eaucrats cling to the public nature of Senegal’s collection society, yet exercise no overs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blic confuses rights paid by public radio/TV with public subsidies to a public ag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of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reference to the private nature of the collection society is used to bolster bureaucratic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wareness semin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ed by a highly-qualified copyrights exp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emented by a grant provided by the Youssou Ndour Foundation obtained by mu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ision of the copyrights legi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-qualified copyrights expert hired to consult with Senegal to revise the la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rafting of the legi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pyrights and related rights expert hired to assist a Senegalese working group to draft the legi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rights and related rights legislation jointly drafted with artists and submitted  for review and ad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islation addresses all art forms, not just music, to account for Senegal’s sit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ucturing of the public collection society now acce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-private partnership fos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awareness of musicians, now with real expertise in copyrights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station can be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study in 2000, project approved  in 2003, legislation drafted 2004-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rt with right-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awareness of ultimate beneficiaries and make them allies in negotiations with public offic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ing public officials on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nk makes loans/grants to gov. not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attention to political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eve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the World Ban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ultural dimension can enhances the World Bank’s prospects of fulfilling its mission: help people help themselves,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ng human and capital resourc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ing knowledg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capacities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ng public-private partnership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conomist with a passion for music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itment to building strong public-private partnerships to promote sustainable economic developmen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viction of the need to make use of the varied dimensions of music and other cultural products, beyond enjoyment and entertainment, to advance World Bank’s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mensions of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urce of diversified income and employ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motion of art and cultural production for local consumption and export directly contributes to increase income and employment, and thus participate to economic growth and poverty redu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mensions of Culture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an to Enhance Decentralized Service Deliv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and other cultural products can be embedded in information and extension messages to train and teach population in good environmental practices and health awareness (hygiene, HIV/AID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mensions of culture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de-related dimen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lectual property rights (IPR) increasingly takes center stage in international trade-related arenas, with developing countries lacking in all a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orld Bank has set its mission to help poor countries in particular in these negotiations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Seneg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ilot country to put paradigm into practice and that other countries look up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untry with a vibrant music production for domestic, regional and worldwide consumptio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ce “harmonic convergence:” both then Bank’s and Senegal’s presidents had been musicians and were supportive of initi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ey Constraints Facing Seneg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, widespread pira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estimates for West Africa--and Senegal by extension--suggest that the piracy level in music is at least 50%, and as much as 85% to 90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ttle awareness of property righ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ors, by ignorance, sign their rights awa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officials are not better in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ed royalties comparatively 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Constraint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ck of promo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trustworthy, professional and competent artist managers to promote arti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ck of trai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opular art forms (e.g., the sole musical school teaches classical mus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chnical maintenance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3:05:15Z</dcterms:created>
  <dc:creator>Ouedraogo Family</dc:creator>
  <dc:description/>
  <dc:language>en-US</dc:language>
  <cp:lastModifiedBy>Ismael Ouedraogo</cp:lastModifiedBy>
  <dcterms:modified xsi:type="dcterms:W3CDTF">2007-09-17T07:44:05Z</dcterms:modified>
  <cp:revision>7</cp:revision>
  <dc:subject/>
  <dc:title>Development of the Senegal Music Industry</dc:title>
</cp:coreProperties>
</file>