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E33-C635-4C6A-A47A-4EEFE1A7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810-10CF-4FA0-8FA1-98657167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6CC-A88D-4A48-A67E-7BE95110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9FF-C171-4CE6-AAA1-F00F88E2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F0A-03D2-4A63-8586-16CC80E1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CDA-B492-49DF-B621-32F83A11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0C1-9964-4A09-A068-2835EDB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FB3-0397-4287-82B6-0706391B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76F-B0FB-453C-BFF7-5BBC298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A88-B610-47E1-8E20-A31D4B8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E5C-C6D2-43FF-A811-4E07C84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E5F-AC23-4E4F-8E90-7BA1451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559-C8B7-48C9-9084-44FB1841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elopment of the Music Industry in Sen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ld Bank-Supported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 Case Study in Music Development from Seneg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Forum on 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mael Ouedra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onstrain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knowledge of the music s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its contribution to income and employment, its level of sales and pi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most, an obsolete legislative and regulatory 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dated legislation (N° 73-52, 12/4/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forcement of existing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society (BSDA) supported by private-sector royalties, yet managed by public bureau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jor Thrusts of Bank Initi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ization of Senegal’s legislation and regulatory fra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negal draft, for parliament’s approval, a modern legislation for copyrights and relate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negal institute a transparent collection society, to be managed by right-holders, under public supervision, and not by public bureaucrats nominated by de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Thrus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awareness and strengthen capa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musicians and other artists, as well as public officials at the Ministry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awareness campaigns addressed to musicians in Dakar and the prov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study tours of developed and develop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echnical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Thrus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aden knowledge of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understand and appraise the contribution of the music sector to income an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and suggest a statute for professional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social conditions of artists to suggest a social safety net (pension schem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egal lacks the expertise to draft a modern legislation, but wouldn’t accept foreign experts to draft its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cra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s cling to the public nature of Senegal’s collection society, yet exercise no overs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blic confuses rights paid by public radio/TV with public subsidies to a public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erence to the private nature of the collection society is used to bolster bureaucratic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eness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by a highly-qualified copyrights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ed by a grant provided by the Youssou Ndour Foundation obtained by mu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 of the copy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-qualified copyrights expert hired to consult with Senegal to revise th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ing of the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pyrights and related rights expert hired to assist a Senegalese working group to draft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s and related rights legislation jointly drafted with artists and submitted  for review and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on addresses all art forms, not just music, to account for Senegal’s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of the public collection society now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partnership fo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musicians, now with real expertise in copyright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ation can be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study in 2000, project approved  in 2003, legislation drafted 2004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right-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awareness of ultimate beneficiaries and make them allies in negotiations with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ng public official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nk makes loans/grants to gov. no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political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ev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the World Ba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ltural dimension can enhances the World Bank’s prospects of fulfilling its mission: help people help themselves,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human and capital resour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knowled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ie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ublic-private partner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conomist with a passion for mus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itment to building strong public-private partnerships to promote sustainable economic develop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viction of the need to make use of the varied dimensions of music and other cultural products, beyond enjoyment and entertainment, to advance World Bank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 of diversified income and employ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motion of art and cultural production for local consumption and export directly contributes to increase income and employment, and thus participate to economic growth and poverty red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 to Enhance Decentralized Service Deli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other cultural products can be embedded in information and extension messages to train and teach population in good environmental practices and health awareness (hygiene, HIV/AID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-related dim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 property rights (IPR) increasingly takes center stage in international trade-related arenas, with developing countries lacking in al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Bank has set its mission to help poor countries in particular in these negotiation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Seneg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lot country to put paradigm into practice and that other countries look up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ntry with a vibrant music production for domestic, regional and worldwide consump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 “harmonic convergence:” both then Bank’s and Senegal’s presidents had been musicians and were supportive of initi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Constraints Facing Sen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, widespread pir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stimates for West Africa--and Senegal by extension--suggest that the piracy level in music is at least 50%, and as much as 85% to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tle awareness of property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ors, by ignorance, sign their rights awa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 are not better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royalties comparatively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onstrain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promo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worthy, professional and competent artist managers to promote art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tra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opular art forms (e.g., the sole musical school teaches classical mus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chnical maintenanc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3:05:15Z</dcterms:created>
  <dc:creator>Ouedraogo Family</dc:creator>
  <dc:description/>
  <dc:language>en-US</dc:language>
  <cp:lastModifiedBy>Ismael Ouedraogo</cp:lastModifiedBy>
  <dcterms:modified xsi:type="dcterms:W3CDTF">2007-09-17T07:44:05Z</dcterms:modified>
  <cp:revision>7</cp:revision>
  <dc:subject/>
  <dc:title>Development of the Senegal Music Industry</dc:title>
</cp:coreProperties>
</file>