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F0362-42C6-424A-9BCB-B1265D4C2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8D118-3185-401A-BEB2-54655FA56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B3505-715B-406E-81B3-D9F62C494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335A0-949C-4CC9-9D26-99833867A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6E194-A51C-48D3-9178-5C5417E38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06E84-B88A-40E9-9C03-91A7B8FBC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BC0A2-0C97-437A-93BE-D5677E298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8D781-7910-4CBB-8B9B-4751A1995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8E0DB-9B40-4EC7-ABCA-3C6C0769F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2E7AF-8E8D-4CB8-A6DB-CD0B069E2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59BD0-6E18-4266-BB17-714896DB2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F0488-34AB-415D-89DD-D268DB27E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7E979-0628-43AF-B16C-F8FBC1ED66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evelopment of the Music Industry in Seneg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World Bank-Supported Initia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 Case Study in Music Development from Seneg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ld Forum on Musi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ctober 12, 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mael Ouedra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Key Constraint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or knowledge of the music sect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arding its contribution to income and employment, its level of sales and pira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remost, an obsolete legislative and regulatory framewor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dated legislation (N° 73-52, 12/4/197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enforcement of existing reg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ollection society (BSDA) supported by private-sector royalties, yet managed by public bureaucra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ajor Thrusts of Bank Initia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dernization of Senegal’s legislation and regulatory framewor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lp Senegal draft, for parliament’s approval, a modern legislation for copyrights and related righ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lp Senegal institute a transparent collection society, to be managed by right-holders, under public supervision, and not by public bureaucrats nominated by decre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ajor Thrust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uild awareness and strengthen capac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musicians and other artists, as well as public officials at the Ministry of Cul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ough awareness campaigns addressed to musicians in Dakar and the provi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ough study tours of developed and developing count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ough technical train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ajor Thrust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roaden knowledge of the s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ter understand and appraise the contribution of the music sector to income and employ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y and suggest a statute for professional arti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ess the social conditions of artists to suggest a social safety net (pension scheme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mplementation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litical sensi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egal lacks the expertise to draft a modern legislation, but wouldn’t accept foreign experts to draft its legis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ureaucratic resis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reaucrats cling to the public nature of Senegal’s collection society, yet exercise no oversigh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ublic confuses rights paid by public radio/TV with public subsidies to a public ag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wer of w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 reference to the private nature of the collection society is used to bolster bureaucratic res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Key Activ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wareness semin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ducted by a highly-qualified copyrights expe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lemented by a grant provided by the Youssou Ndour Foundation obtained by musici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vision of the copyrights legis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ly-qualified copyrights expert hired to consult with Senegal to revise the la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rafting of the legis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opyrights and related rights expert hired to assist a Senegalese working group to draft the legis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hiev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pyrights and related rights legislation jointly drafted with artists and submitted  for review and ado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gislation addresses all art forms, not just music, to account for Senegal’s situ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ucturing of the public collection society now accep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blic-private partnership foste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ed awareness of musicians, now with real expertise in copyrights 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estation can be lo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ckground study in 2000, project approved  in 2003, legislation drafted 2004-2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rt with right-hol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ise awareness of ultimate beneficiaries and make them allies in negotiations with public offic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ring public officials on bo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Bank makes loans/grants to gov. not individu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y attention to political sensi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severe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y the World Bank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ultural dimension can enhances the World Bank’s prospects of fulfilling its mission: help people help themselves, 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ibuting human and capital resource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ring knowledge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ing capacities,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moting public-private partnership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y M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economist with a passion for music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ommitment to building strong public-private partnerships to promote sustainable economic developmen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onviction of the need to make use of the varied dimensions of music and other cultural products, beyond enjoyment and entertainment, to advance World Bank’s wo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imensions of Cul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urce of diversified income and employm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romotion of art and cultural production for local consumption and export directly contributes to increase income and employment, and thus participate to economic growth and poverty reduct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imensions of Culture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ean to Enhance Decentralized Service Deliver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and other cultural products can be embedded in information and extension messages to train and teach population in good environmental practices and health awareness (hygiene, HIV/AIDS, etc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imensions of culture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rade-related dimens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llectual property rights (IPR) increasingly takes center stage in international trade-related arenas, with developing countries lacking in all asp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World Bank has set its mission to help poor countries in particular in these negotiations.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y Senega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ilot country to put paradigm into practice and that other countries look up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ountry with a vibrant music production for domestic, regional and worldwide consumption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nce “harmonic convergence:” both then Bank’s and Senegal’s presidents had been musicians and were supportive of initiativ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Key Constraints Facing Seneg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pen, widespread pirac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estimates for West Africa--and Senegal by extension--suggest that the piracy level in music is at least 50%, and as much as 85% to 90%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ittle awareness of property righ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ors, by ignorance, sign their rights away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blic officials are not better inform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ected royalties comparatively 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Key Constraint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ck of promoter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ck of trustworthy, professional and competent artist managers to promote artis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ck of train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popular art forms (e.g., the sole musical school teaches classical mus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chnical maintenance of equi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6T13:05:15Z</dcterms:created>
  <dc:creator>Ouedraogo Family</dc:creator>
  <dc:description/>
  <dc:language>en-US</dc:language>
  <cp:lastModifiedBy>Ismael Ouedraogo</cp:lastModifiedBy>
  <dcterms:modified xsi:type="dcterms:W3CDTF">2007-09-17T07:44:05Z</dcterms:modified>
  <cp:revision>7</cp:revision>
  <dc:subject/>
  <dc:title>Development of the Senegal Music Industry</dc:title>
</cp:coreProperties>
</file>